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C3E-FE2F-4041-BD89-C0538E2E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550-EBB9-4907-81F1-C4B317D6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B83-F15B-4398-9370-69D1ED7D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F4D-6FB2-4784-9731-24547BCC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DD9-9D6B-4ABD-99EA-3506D1CF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BD2-AAC4-4197-9A97-A96ACDD8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229-DD40-454F-9C74-F0569AB1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C28-EED6-432E-869C-DEFD22BD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578-C4AF-4697-8356-E6F84639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BEA-6590-4F3C-98FF-C8EF511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B78-553C-4873-AA79-746437F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BB6-6B0A-4234-BFD6-17301892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992F-0EE4-457C-B9C6-D89BB0797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Make these times on your clocks!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42900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2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4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9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half past 1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half past 3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Staff</cp:lastModifiedBy>
  <dcterms:modified xsi:type="dcterms:W3CDTF">2006-02-27T08:08:06Z</dcterms:modified>
  <cp:revision>2</cp:revision>
  <dc:subject/>
  <dc:title>Make these times on your clocks!    </dc:title>
</cp:coreProperties>
</file>