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33D-D2F8-4AE9-A2C5-B4491B31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2FA-AC4F-4E21-A086-C6EE3C35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996-D749-44CF-9D80-BF589C25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C20-2F64-4823-8B96-724728CA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BD8-6B3F-41F4-AD5B-730BBB0D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18E-0720-4C26-95EB-C3FE7C5B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FB9-8CDD-498A-87F7-3D6A12F1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2F5-14DF-4AD6-9C24-A34E3136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293-E887-40E3-AAA5-C261F9B4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EED-F7D3-4926-B0DC-F33103A6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B71-7732-4395-BE82-1564BA0D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21F-BAA1-4359-ACAA-A836C92D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E8FC-16F4-4994-96C3-CAA2B0175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Can you make these times?</a:t>
            </a:r>
            <a:br>
              <a:rPr sz="4700"/>
            </a:b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57336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64500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35772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TEACHER</cp:lastModifiedBy>
  <dcterms:modified xsi:type="dcterms:W3CDTF">2008-01-13T20:58:03Z</dcterms:modified>
  <cp:revision>4</cp:revision>
  <dc:subject/>
  <dc:title>Make these times on your clocks!    </dc:title>
</cp:coreProperties>
</file>