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52F-7159-47A4-AC3A-9D8B16FE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3C0-D0AE-4472-9200-E92B83C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948-F498-49AE-B755-FF3D3B67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165-4249-4F44-BC52-07C2AD71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782-1635-4766-B21F-20BCEB7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787-8600-4DDE-AEDE-E7B6866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AD-4E09-4D92-8156-CACC30E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91A-7882-4DC8-8BC5-972A4BEA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8A9-C15D-43AE-94F4-931E7E0C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48A-1D59-4D25-9069-DE85EF71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0E5-5FD1-49B5-814E-24252A9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5EA-B1A2-445F-A785-608C5AC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C9C-13A9-4B63-982E-917B458C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Half past or o’clock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11-13T07:54:56Z</dcterms:modified>
  <cp:revision>3</cp:revision>
  <dc:subject/>
  <dc:title>Make these times on your clocks!    </dc:title>
</cp:coreProperties>
</file>