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A7E-0EFE-4F6F-9E80-760722AA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61B-9DEB-48C4-9DB7-61C43A4E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9E8-02E1-4071-961E-1C1C8C5C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75E-CABF-4CE3-9493-F3B70B2C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74B-3409-4854-BD6C-708D53F5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242-ECCD-4F13-93CD-130383CA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C86-FF97-408D-87D8-1F1F81EE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0DF-BEEA-4F73-B257-BC5B9976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F85-B864-4567-8C38-26559A37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D06-6C79-4DAC-AB85-D0CF3EB4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4DF-E5FE-4C58-833B-85297CE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D63-513C-42E3-AE26-911635A2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05A5-0A3B-45CA-9E91-5DF18A339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lf past or o’clock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3:26:39Z</dcterms:created>
  <dc:creator>TEACHER</dc:creator>
  <dc:description/>
  <dc:language>en-US</dc:language>
  <cp:lastModifiedBy>Staff</cp:lastModifiedBy>
  <dcterms:modified xsi:type="dcterms:W3CDTF">2006-01-09T08:55:09Z</dcterms:modified>
  <cp:revision>1</cp:revision>
  <dc:subject/>
  <dc:title>Half past or o’clock? </dc:title>
</cp:coreProperties>
</file>