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516-307F-4676-A43C-DA0190AD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BAB-FC4E-4F8E-93FF-648DF95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9D7-F9B1-460A-9B73-AE81E3F2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9C2-FA2E-463C-BB11-8AC1985C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FF9-FB5E-4169-B656-FB886262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782-64ED-43F4-A512-73E87333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F12-71AD-453B-AF83-9E841A4B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14B-9991-41A7-A530-753C9E20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DE0-F592-4643-BD3F-1C0F1E01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76E-5881-4528-816E-5B8C98FF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483-1977-4BC8-A4A5-906601D0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9E9-6F9B-40ED-9A5B-19DA6390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6896-60EE-44C3-9E96-602C5E3A8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What time is it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284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768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7792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9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2:22:18Z</dcterms:created>
  <dc:creator>TEACHER</dc:creator>
  <dc:description/>
  <dc:language>en-US</dc:language>
  <cp:lastModifiedBy>Staff</cp:lastModifiedBy>
  <dcterms:modified xsi:type="dcterms:W3CDTF">2005-11-16T07:47:02Z</dcterms:modified>
  <cp:revision>1</cp:revision>
  <dc:subject/>
  <dc:title>What time is it? </dc:title>
</cp:coreProperties>
</file>